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7C86-8E14-4710-BAD8-33817946F6D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29EA-803A-4138-B96E-B9601DDA387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D355-1CA9-4AB2-A3C1-DA69FD69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FAFE-E6B0-4088-81AA-78B93F5D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C92E-1D5E-4955-9F8C-EBD5FD69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BE0C-255F-47C4-9F68-9701657C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C3C1-0B77-499A-8F9A-F86C534D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1C37-6D65-481F-B139-534419F3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C551-BD7A-46B4-B280-B4BD67C2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3F3E-A6CF-4404-965A-67DFD1D0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7F0E-AF95-470A-907C-269EB2BB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50C5-016C-48F3-AEC2-CDAF9614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0832-93BE-4B6A-B35B-7CCA76B4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16D0-8A98-4640-AA6C-E2499637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3CE7-0035-410B-A43E-D2E5B4ED0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Géocul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With over 11 million people, the Île-de-France region represents 20% of France’s popula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-1108" t="25780" r="45000" b="10221"/>
          <a:stretch/>
        </p:blipFill>
        <p:spPr>
          <a:xfrm>
            <a:off x="0" y="380880"/>
            <a:ext cx="85518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’Île de la ci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n island in the Seine Ri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he «craddle of Paris » , where the Parisii tribe built the first structures in what is now Par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s://encrypted-tbn1.google.com/images?q=tbn:ANd9GcTySj6iXnUYMjHUIjMgFG3-hDs-E5lzaB0Zh2hyATamcFL0SUPB"/>
          <p:cNvPicPr/>
          <p:nvPr/>
        </p:nvPicPr>
        <p:blipFill>
          <a:blip r:embed="rId1"/>
          <a:stretch/>
        </p:blipFill>
        <p:spPr>
          <a:xfrm>
            <a:off x="2590920" y="3657600"/>
            <a:ext cx="35812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a Tour Eiff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Gustave Eiffel from Dij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889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uilt for the World’s  Fa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elebrates the Centennial of the French Rev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as the tallest building in the wor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acré Cœur vs. La Tour Eiff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sphotos-a.xx.fbcdn.net/hphotos-snc6/264571_10100140242335108_3528693_n.jpg"/>
          <p:cNvPicPr/>
          <p:nvPr/>
        </p:nvPicPr>
        <p:blipFill>
          <a:blip r:embed="rId1"/>
          <a:stretch/>
        </p:blipFill>
        <p:spPr>
          <a:xfrm>
            <a:off x="5867280" y="129528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sphotos-a.xx.fbcdn.net/hphotos-prn1/37312_798353895308_5357987_n.jpg"/>
          <p:cNvPicPr/>
          <p:nvPr/>
        </p:nvPicPr>
        <p:blipFill>
          <a:blip r:embed="rId2"/>
          <a:stretch/>
        </p:blipFill>
        <p:spPr>
          <a:xfrm>
            <a:off x="7010280" y="4038480"/>
            <a:ext cx="20005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546" t="42090" r="60525" b="10767"/>
          <a:stretch/>
        </p:blipFill>
        <p:spPr>
          <a:xfrm>
            <a:off x="1447920" y="1523880"/>
            <a:ext cx="632448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rcRect l="546" t="42090" r="61577" b="10767"/>
          <a:stretch/>
        </p:blipFill>
        <p:spPr>
          <a:xfrm>
            <a:off x="457200" y="1523880"/>
            <a:ext cx="5257800" cy="4089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https://encrypted-tbn0.google.com/images?q=tbn:ANd9GcTwX-2WuQ8DUUSkNcXlFIBZFVlBmXomrip3b6ZalP2L7ufMdqRU"/>
          <p:cNvPicPr/>
          <p:nvPr/>
        </p:nvPicPr>
        <p:blipFill>
          <a:blip r:embed="rId2"/>
          <a:stretch/>
        </p:blipFill>
        <p:spPr>
          <a:xfrm>
            <a:off x="6248520" y="30481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rcRect l="543" t="62298" r="61577" b="12451"/>
          <a:stretch/>
        </p:blipFill>
        <p:spPr>
          <a:xfrm>
            <a:off x="762120" y="1676520"/>
            <a:ext cx="7132680" cy="297180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685800" y="502920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erything that’s supposed to be on the inside of a building is visible on outsi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rcRect l="0" t="37043" r="62627" b="15819"/>
          <a:stretch/>
        </p:blipFill>
        <p:spPr>
          <a:xfrm>
            <a:off x="1724040" y="254160"/>
            <a:ext cx="6734160" cy="5308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http://sphotos-a.xx.fbcdn.net/hphotos-snc6/263892_10100140249351048_4721541_n.jpg"/>
          <p:cNvPicPr/>
          <p:nvPr/>
        </p:nvPicPr>
        <p:blipFill>
          <a:blip r:embed="rId2"/>
          <a:stretch/>
        </p:blipFill>
        <p:spPr>
          <a:xfrm>
            <a:off x="0" y="5219640"/>
            <a:ext cx="21844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1T15:09:43Z</dcterms:created>
  <dc:creator>Robbie</dc:creator>
  <dc:description/>
  <dc:language>en-US</dc:language>
  <cp:lastModifiedBy>Robbie</cp:lastModifiedBy>
  <dcterms:modified xsi:type="dcterms:W3CDTF">2012-08-11T15:12:52Z</dcterms:modified>
  <cp:revision>2</cp:revision>
  <dc:subject/>
  <dc:title>Géoculture</dc:title>
</cp:coreProperties>
</file>